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gif" ContentType="image/gif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7.jpeg" ContentType="image/jpeg"/>
  <Override PartName="/ppt/media/image15.gif" ContentType="image/gif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C1B-4C4D-4163-8D86-5A97BFE91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7C0-1EB9-4E92-BA95-2AE4F7D42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multiple_choice_polls/LTE2OTU4MTE3MD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98D3A-4D58-4C14-9A90-7E0BF7E489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multiple_choice_polls/LTE3MTk2NjY5Mj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49D11-FE7E-4AB0-86C7-191F190AFE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free_text_polls/LTEyNzk3MTg4Nz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6DB54-F783-4C06-B85C-DB2E1860A9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BD9-1253-4420-AFBC-9A16DCC2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BB1-1101-4118-8AA1-D22FE013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C04-B435-4425-985C-7990AAC6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2C0-DB3D-4A06-8C10-222D7EA3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0130-70AE-425F-B1DD-A47E248F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176-BCBC-48DE-B1F4-93250E4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C378-E579-4C7F-B469-A4278081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64C-178E-4146-8607-DEF59BF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03E-A408-440C-B16D-3DBA739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1F7D-738B-4B4C-A60F-BEA9F31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1FD-C2E0-4C4C-AE95-01A86A0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3B2-FB37-4811-A344-A4A2C7C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BF54-EC0F-47F6-83DD-8BD6679F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48E-9583-456B-8808-0E88CE48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7B5-9642-43FD-8B99-C71CDC9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AA6-137D-40E9-94B0-A65A37C6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6D50-5642-40EF-B2DA-31CA3209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82-5FD0-4801-9FBC-A52421C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4F8-0040-459E-8568-C9D95870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DCC-48EA-4EF0-9DA9-B5577F30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373-B401-434F-BAEC-87B4535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AA4-FAAC-4E34-9B1F-93E5631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6D9-CEB3-43F2-A047-EA6991B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CCD-4C83-48F7-9CA9-AF754AF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8D6-067D-46B8-BA74-EFED119F82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32F-F866-4BB2-899F-BEFC6BC6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F4E-3CC7-41B6-B436-3A8BF6145A8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4D29-BA02-4CFA-8DDD-9AC50B4D4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ology for the Administra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to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educationwithkri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z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Content Placeholder 19" descr="prezi.jpg"/>
          <p:cNvPicPr/>
          <p:nvPr/>
        </p:nvPicPr>
        <p:blipFill>
          <a:blip r:embed="rId1"/>
          <a:srcRect l="0" t="-37161" r="0" b="-3716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fferent way to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ilities end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0" descr="Camera-01-june"/>
          <p:cNvPicPr/>
          <p:nvPr/>
        </p:nvPicPr>
        <p:blipFill>
          <a:blip r:embed="rId1"/>
          <a:stretch/>
        </p:blipFill>
        <p:spPr>
          <a:xfrm>
            <a:off x="1030320" y="1295280"/>
            <a:ext cx="3084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oto.c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Animto.c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15840" y="1089000"/>
          <a:ext cx="784404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089000"/>
                    <a:ext cx="784404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.Delicious.c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apple"/>
          <p:cNvPicPr/>
          <p:nvPr/>
        </p:nvPicPr>
        <p:blipFill>
          <a:blip r:embed="rId1"/>
          <a:stretch/>
        </p:blipFill>
        <p:spPr>
          <a:xfrm>
            <a:off x="5108400" y="160020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Delic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cious is a social networking website that helps educators organize and share useful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elic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what you have found to be help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useful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ll of your and you colleagues bookmarks in on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a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or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Google Lego 50th Anniversary Inspiration by manfrys"/>
          <p:cNvPicPr/>
          <p:nvPr/>
        </p:nvPicPr>
        <p:blipFill>
          <a:blip r:embed="rId1"/>
          <a:stretch/>
        </p:blipFill>
        <p:spPr>
          <a:xfrm>
            <a:off x="4495680" y="2408400"/>
            <a:ext cx="4267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62120" y="1158840"/>
          <a:ext cx="7619760" cy="57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58840"/>
                    <a:ext cx="761976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ice thre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Presenting the head(banger)phones at the ITP Winter Show 2008 by leesean"/>
          <p:cNvPicPr/>
          <p:nvPr/>
        </p:nvPicPr>
        <p:blipFill>
          <a:blip r:embed="rId1"/>
          <a:stretch/>
        </p:blipFill>
        <p:spPr>
          <a:xfrm>
            <a:off x="4724280" y="23050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 of the Cou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to motivate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motivate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to make us more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 easy to us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icethre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36360"/>
          <a:ext cx="9599760" cy="784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360"/>
                    <a:ext cx="9599760" cy="784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Picture 5" descr="flex_guy"/>
          <p:cNvPicPr/>
          <p:nvPr/>
        </p:nvPicPr>
        <p:blipFill>
          <a:blip r:embed="rId1"/>
          <a:stretch/>
        </p:blipFill>
        <p:spPr>
          <a:xfrm>
            <a:off x="380880" y="1523880"/>
            <a:ext cx="3191040" cy="457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granny1"/>
          <p:cNvPicPr/>
          <p:nvPr/>
        </p:nvPicPr>
        <p:blipFill>
          <a:blip r:embed="rId2"/>
          <a:stretch/>
        </p:blipFill>
        <p:spPr>
          <a:xfrm>
            <a:off x="5410080" y="1600200"/>
            <a:ext cx="309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-pod Touches in the Class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Content Placeholder 3" descr="ipod.jpg"/>
          <p:cNvPicPr/>
          <p:nvPr/>
        </p:nvPicPr>
        <p:blipFill>
          <a:blip r:embed="rId1"/>
          <a:srcRect l="-29543" t="0" r="-295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’s Next?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Future Or Bust! by Vermin Inc"/>
          <p:cNvPicPr/>
          <p:nvPr/>
        </p:nvPicPr>
        <p:blipFill>
          <a:blip r:embed="rId1"/>
          <a:stretch/>
        </p:blipFill>
        <p:spPr>
          <a:xfrm>
            <a:off x="2819520" y="1219320"/>
            <a:ext cx="3525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effective technology must be easy to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nforce the Cirricu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mart Board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ing te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Create a Text Po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Content Placeholder 6" descr="polls.jpg"/>
          <p:cNvPicPr/>
          <p:nvPr/>
        </p:nvPicPr>
        <p:blipFill>
          <a:blip r:embed="rId1"/>
          <a:srcRect l="0" t="-36041" r="0" b="-3604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lleverywhe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Content Placeholder 4" descr="dj.jpg"/>
          <p:cNvPicPr/>
          <p:nvPr/>
        </p:nvPicPr>
        <p:blipFill>
          <a:blip r:embed="rId1"/>
          <a:srcRect l="0" t="-34490" r="0" b="-3449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to collabo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opb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Content Placeholder 4" descr="box.jpg"/>
          <p:cNvPicPr/>
          <p:nvPr/>
        </p:nvPicPr>
        <p:blipFill>
          <a:blip r:embed="rId1"/>
          <a:srcRect l="0" t="-21500" r="0" b="-2150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14:53:09Z</dcterms:created>
  <dc:creator>Sean Eby</dc:creator>
  <dc:description/>
  <dc:language>en-US</dc:language>
  <cp:lastModifiedBy>lmadmin</cp:lastModifiedBy>
  <dcterms:modified xsi:type="dcterms:W3CDTF">2010-08-01T16:23:04Z</dcterms:modified>
  <cp:revision>27</cp:revision>
  <dc:subject/>
  <dc:title>Slide 1</dc:title>
</cp:coreProperties>
</file>